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431F-8391-400C-BDDE-3FEA4D1B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9018-1D91-4964-B34E-4FB6CAB9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CE4F-4AB9-473D-9FD8-F8E9BD67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ECD4-3C35-452E-878E-2FF3DBD7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2FFA-A279-47CF-A6C0-8126D63D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253B-5925-404A-A0E8-21187E2C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B08F-04FB-42DE-9FF3-4831626A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53A3-E22D-4EC1-8D00-DB02E505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DB1D-7B3D-424C-870B-CDA200DE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50EE-A26E-4EFB-8910-3961E439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2041-5020-435F-8AB0-0A26EC69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395-1A24-413A-B148-002AE3AE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78C3-F56E-4DB9-9F71-4FFDD4B3A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nswer Keys, Checklists, Rating Scales &amp; Rubric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AutoShape 7"/>
          <p:cNvCxnSpPr/>
          <p:nvPr/>
        </p:nvCxnSpPr>
        <p:spPr>
          <a:xfrm>
            <a:off x="1676520" y="5219280"/>
            <a:ext cx="121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" name="Line 10"/>
          <p:cNvSpPr/>
          <p:nvPr/>
        </p:nvSpPr>
        <p:spPr>
          <a:xfrm>
            <a:off x="1676520" y="49910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1"/>
          <p:cNvSpPr/>
          <p:nvPr/>
        </p:nvSpPr>
        <p:spPr>
          <a:xfrm>
            <a:off x="3048120" y="49910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1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1447920" cy="143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"/>
          <p:cNvPicPr/>
          <p:nvPr/>
        </p:nvPicPr>
        <p:blipFill>
          <a:blip r:embed="rId2"/>
          <a:stretch/>
        </p:blipFill>
        <p:spPr>
          <a:xfrm>
            <a:off x="1066680" y="4457880"/>
            <a:ext cx="2133720" cy="18777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4"/>
          <p:cNvSpPr/>
          <p:nvPr/>
        </p:nvSpPr>
        <p:spPr>
          <a:xfrm>
            <a:off x="76212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Ready for my big close-up: </a:t>
            </a: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American Typewriter"/>
              </a:rPr>
              <a:t>Yes____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merican Typewriter"/>
              </a:rPr>
              <a:t>No____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</a:rPr>
              <a:t>(check 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br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48440" cy="12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Picture 1.png"/>
          <p:cNvPicPr/>
          <p:nvPr/>
        </p:nvPicPr>
        <p:blipFill>
          <a:blip r:embed="rId2"/>
          <a:stretch/>
        </p:blipFill>
        <p:spPr>
          <a:xfrm>
            <a:off x="866880" y="1832040"/>
            <a:ext cx="7286400" cy="5025960"/>
          </a:xfrm>
          <a:prstGeom prst="rect">
            <a:avLst/>
          </a:prstGeom>
          <a:ln w="0">
            <a:noFill/>
          </a:ln>
        </p:spPr>
      </p:pic>
      <p:pic>
        <p:nvPicPr>
          <p:cNvPr id="115" name="Rectangle 6" descr=""/>
          <p:cNvPicPr/>
          <p:nvPr/>
        </p:nvPicPr>
        <p:blipFill>
          <a:blip r:embed="rId3"/>
          <a:stretch/>
        </p:blipFill>
        <p:spPr>
          <a:xfrm>
            <a:off x="96840" y="-19080"/>
            <a:ext cx="32432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br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48440" cy="126720"/>
          </a:xfrm>
          <a:prstGeom prst="rect">
            <a:avLst/>
          </a:prstGeom>
          <a:ln w="0">
            <a:noFill/>
          </a:ln>
        </p:spPr>
      </p:pic>
      <p:pic>
        <p:nvPicPr>
          <p:cNvPr id="118" name="Rectangle 6" descr=""/>
          <p:cNvPicPr/>
          <p:nvPr/>
        </p:nvPicPr>
        <p:blipFill>
          <a:blip r:embed="rId2"/>
          <a:stretch/>
        </p:blipFill>
        <p:spPr>
          <a:xfrm>
            <a:off x="-55440" y="-30240"/>
            <a:ext cx="2877840" cy="884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Screen Shot 2015-10-07 at 5.18.14 PM.png"/>
          <p:cNvPicPr/>
          <p:nvPr/>
        </p:nvPicPr>
        <p:blipFill>
          <a:blip r:embed="rId3"/>
          <a:stretch/>
        </p:blipFill>
        <p:spPr>
          <a:xfrm>
            <a:off x="533520" y="2057400"/>
            <a:ext cx="7950240" cy="4165560"/>
          </a:xfrm>
          <a:prstGeom prst="rect">
            <a:avLst/>
          </a:prstGeom>
          <a:ln w="6480">
            <a:solidFill>
              <a:srgbClr val="80808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id it come to thi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9"/>
          <p:cNvGrpSpPr/>
          <p:nvPr/>
        </p:nvGrpSpPr>
        <p:grpSpPr>
          <a:xfrm>
            <a:off x="723960" y="2743200"/>
            <a:ext cx="7695720" cy="685440"/>
            <a:chOff x="723960" y="2743200"/>
            <a:chExt cx="7695720" cy="685440"/>
          </a:xfrm>
        </p:grpSpPr>
        <p:sp>
          <p:nvSpPr>
            <p:cNvPr id="50" name="WordArt 5"/>
            <p:cNvSpPr txBox="1"/>
            <p:nvPr/>
          </p:nvSpPr>
          <p:spPr>
            <a:xfrm>
              <a:off x="723960" y="2743200"/>
              <a:ext cx="3735000" cy="621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>
                        <a:alpha val="75000"/>
                      </a:srgbClr>
                    </a:outerShdw>
                  </a:effectLst>
                  <a:latin typeface="Arial"/>
                </a:rPr>
                <a:t>Cognitive Processes  =&gt;</a:t>
              </a:r>
              <a:endPara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1" name="WordArt 6"/>
            <p:cNvSpPr txBox="1"/>
            <p:nvPr/>
          </p:nvSpPr>
          <p:spPr>
            <a:xfrm>
              <a:off x="4798080" y="2743200"/>
              <a:ext cx="3621600" cy="68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>
                        <a:alpha val="75000"/>
                      </a:srgbClr>
                    </a:outerShdw>
                  </a:effectLst>
                  <a:latin typeface="Times New Roman"/>
                </a:rPr>
                <a:t>Self Monitoring Learners</a:t>
              </a:r>
              <a:endPara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52" name="WordArt 7"/>
          <p:cNvSpPr txBox="1"/>
          <p:nvPr/>
        </p:nvSpPr>
        <p:spPr>
          <a:xfrm>
            <a:off x="1473120" y="1981080"/>
            <a:ext cx="619776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Arial"/>
              </a:rPr>
              <a:t>Active Construction of Understanding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sp>
          <p:nvSpPr>
            <p:cNvPr id="54" name="WordArt 8"/>
            <p:cNvSpPr txBox="1"/>
            <p:nvPr/>
          </p:nvSpPr>
          <p:spPr>
            <a:xfrm>
              <a:off x="2857680" y="3657600"/>
              <a:ext cx="3429000" cy="79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>
                        <a:alpha val="75000"/>
                      </a:srgbClr>
                    </a:outerShdw>
                  </a:effectLst>
                  <a:latin typeface="Times New Roman"/>
                </a:rPr>
                <a:t>Feedback</a:t>
              </a:r>
              <a:endPara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pic>
          <p:nvPicPr>
            <p:cNvPr id="55" name="Picture 13" descr=""/>
            <p:cNvPicPr/>
            <p:nvPr/>
          </p:nvPicPr>
          <p:blipFill>
            <a:blip r:embed="rId1"/>
            <a:stretch/>
          </p:blipFill>
          <p:spPr>
            <a:xfrm>
              <a:off x="0" y="4681440"/>
              <a:ext cx="2362320" cy="21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4" descr=""/>
            <p:cNvPicPr/>
            <p:nvPr/>
          </p:nvPicPr>
          <p:blipFill>
            <a:blip r:embed="rId2"/>
            <a:stretch/>
          </p:blipFill>
          <p:spPr>
            <a:xfrm>
              <a:off x="2286000" y="4692600"/>
              <a:ext cx="3048120" cy="21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5" descr=""/>
            <p:cNvPicPr/>
            <p:nvPr/>
          </p:nvPicPr>
          <p:blipFill>
            <a:blip r:embed="rId3"/>
            <a:stretch/>
          </p:blipFill>
          <p:spPr>
            <a:xfrm>
              <a:off x="5334120" y="4678200"/>
              <a:ext cx="3809880" cy="2179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ring Gu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 Keys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lists </a:t>
            </a:r>
            <a:r>
              <a:rPr b="0" lang="en-US" sz="4800" spc="-1" strike="noStrike">
                <a:solidFill>
                  <a:srgbClr val="000000"/>
                </a:solidFill>
                <a:latin typeface="Charco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ing Scales    ____|____|____|____|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br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381200" y="3809880"/>
            <a:ext cx="30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   2          3      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 rot="20064000">
            <a:off x="3541320" y="2362320"/>
            <a:ext cx="1041480" cy="1041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1714320" cy="141588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38183" dir="2700000" blurRad="0" rotWithShape="0">
              <a:srgbClr val="7f7f7f">
                <a:alpha val="43000"/>
              </a:srgbClr>
            </a:outerShdw>
          </a:effectLst>
        </p:spPr>
      </p:pic>
      <p:sp>
        <p:nvSpPr>
          <p:cNvPr id="63" name="TextBox 2"/>
          <p:cNvSpPr/>
          <p:nvPr/>
        </p:nvSpPr>
        <p:spPr>
          <a:xfrm>
            <a:off x="4267080" y="4648320"/>
            <a:ext cx="36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alkduster"/>
              </a:rPr>
              <a:t>Fail              meh           Awesome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l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hecklist is a simple listing of criteria or dimensions, … simply check whether or not each criterion was met or each dimension demonstrated.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haviors should be concrete and observ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haviors are either present or abs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lists may be scored (yes / no,   +1 / -1,  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48440" cy="12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7924680" y="5181480"/>
            <a:ext cx="857520" cy="8859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307800" y="6027840"/>
            <a:ext cx="739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•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cMillan, J. (2014).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lassroom assessment: Principles and practice for effective standards-bas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(6th ed.). Boston: Pears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•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edler, M. (1999).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lassroom Assessment and Learn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 New York: Longma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ing a checkli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752480" y="4343400"/>
            <a:ext cx="5639040" cy="22892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e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sen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line of paragrap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ic Sent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graph single top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in logical 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lusion suppor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your targe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.g., effective paragraph constructio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 a list of observable component behavior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nge the components in a logical ord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ise a simp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.g., present / absen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rking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48440" cy="12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ng scales are used when characteristics or dimensions of performance or product can be identified and exist to a greater or lesser degree.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only those behaviors that you will tea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 each item to a single dimension of the performance or produc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only pivotal elemen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judgmental terms 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48440" cy="126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41360" y="630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754200" y="6170760"/>
            <a:ext cx="676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edler, M. (1999). Classroom Assessment and Learning.  New York: Longm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68240" y="6400800"/>
            <a:ext cx="70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se, C. (1999).  Contemporary Assessment for Educator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York: Longm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2"/>
          <a:stretch/>
        </p:blipFill>
        <p:spPr>
          <a:xfrm>
            <a:off x="7010280" y="4876920"/>
            <a:ext cx="8035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ng scales f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says of literary criticis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1371600" y="3124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17524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9718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7"/>
          <p:cNvSpPr/>
          <p:nvPr/>
        </p:nvSpPr>
        <p:spPr>
          <a:xfrm>
            <a:off x="40384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8"/>
          <p:cNvSpPr/>
          <p:nvPr/>
        </p:nvSpPr>
        <p:spPr>
          <a:xfrm>
            <a:off x="5029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9"/>
          <p:cNvSpPr/>
          <p:nvPr/>
        </p:nvSpPr>
        <p:spPr>
          <a:xfrm>
            <a:off x="6172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72388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1523880" y="32767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1     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1066680" y="3581280"/>
            <a:ext cx="662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ceptional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Adequate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mited                   hu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hievement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Achievement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hie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4"/>
          <p:cNvSpPr/>
          <p:nvPr/>
        </p:nvSpPr>
        <p:spPr>
          <a:xfrm>
            <a:off x="1523880" y="5410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5"/>
          <p:cNvSpPr/>
          <p:nvPr/>
        </p:nvSpPr>
        <p:spPr>
          <a:xfrm>
            <a:off x="19051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6"/>
          <p:cNvSpPr/>
          <p:nvPr/>
        </p:nvSpPr>
        <p:spPr>
          <a:xfrm>
            <a:off x="31240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7"/>
          <p:cNvSpPr/>
          <p:nvPr/>
        </p:nvSpPr>
        <p:spPr>
          <a:xfrm>
            <a:off x="41911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8"/>
          <p:cNvSpPr/>
          <p:nvPr/>
        </p:nvSpPr>
        <p:spPr>
          <a:xfrm>
            <a:off x="51814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63244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30"/>
          <p:cNvSpPr/>
          <p:nvPr/>
        </p:nvSpPr>
        <p:spPr>
          <a:xfrm>
            <a:off x="73915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1"/>
          <p:cNvSpPr/>
          <p:nvPr/>
        </p:nvSpPr>
        <p:spPr>
          <a:xfrm>
            <a:off x="1676520" y="5638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1     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1219320" y="5943600"/>
            <a:ext cx="662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ceptional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Adequate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mited                   hu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hievement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Achievement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hie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3"/>
          <p:cNvSpPr/>
          <p:nvPr/>
        </p:nvSpPr>
        <p:spPr>
          <a:xfrm>
            <a:off x="885240" y="2193840"/>
            <a:ext cx="76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s reasons and specific evidence to support  the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4"/>
          <p:cNvSpPr/>
          <p:nvPr/>
        </p:nvSpPr>
        <p:spPr>
          <a:xfrm>
            <a:off x="974880" y="463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5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48440" cy="126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6"/>
          <p:cNvSpPr/>
          <p:nvPr/>
        </p:nvSpPr>
        <p:spPr>
          <a:xfrm>
            <a:off x="1510200" y="4724280"/>
            <a:ext cx="63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es and discusses alternatives points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br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ubric is simply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ierarchy of standards used to score students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rk.*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brics generally have 3 - 6 levels of achiev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brics can b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lis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aly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ener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pecif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istic: describes the qualities of the performance as a whole.  One score stands for a constellation of descrip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tic: assigns separate scores to the task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essential tra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: one rubric applies to various instances of the phenomeno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: the rubric applies to one specific task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48440" cy="1267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766080" y="6170760"/>
            <a:ext cx="68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Bush &amp; Leinwand. (2000).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hematics Assessment:…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ston, VA.  NCT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75120" y="6519960"/>
            <a:ext cx="842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cGatha &amp; Darcy. (2010).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brics at Play.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eaching Mathematics in the Middle School. v. 15 n.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br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48440" cy="126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Picture 1.png"/>
          <p:cNvPicPr/>
          <p:nvPr/>
        </p:nvPicPr>
        <p:blipFill>
          <a:blip r:embed="rId2"/>
          <a:srcRect l="0" t="6151" r="0" b="0"/>
          <a:stretch/>
        </p:blipFill>
        <p:spPr>
          <a:xfrm>
            <a:off x="839880" y="1905120"/>
            <a:ext cx="7237440" cy="4870440"/>
          </a:xfrm>
          <a:prstGeom prst="rect">
            <a:avLst/>
          </a:prstGeom>
          <a:ln w="0">
            <a:noFill/>
          </a:ln>
        </p:spPr>
      </p:pic>
      <p:pic>
        <p:nvPicPr>
          <p:cNvPr id="111" name="Rectangle 7" descr=""/>
          <p:cNvPicPr/>
          <p:nvPr/>
        </p:nvPicPr>
        <p:blipFill>
          <a:blip r:embed="rId3"/>
          <a:stretch/>
        </p:blipFill>
        <p:spPr>
          <a:xfrm>
            <a:off x="96840" y="-30240"/>
            <a:ext cx="31226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8:03:06Z</dcterms:created>
  <dc:creator>Mark Roddy</dc:creator>
  <dc:description/>
  <dc:language>en-US</dc:language>
  <cp:lastModifiedBy>Mark Roddy</cp:lastModifiedBy>
  <cp:lastPrinted>2004-10-11T18:35:01Z</cp:lastPrinted>
  <dcterms:modified xsi:type="dcterms:W3CDTF">2015-10-08T00:20:48Z</dcterms:modified>
  <cp:revision>47</cp:revision>
  <dc:subject/>
  <dc:title>Checklists and Rating Scales</dc:title>
</cp:coreProperties>
</file>